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D8A-83E3-4FD4-9959-EE1C44F79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7BB-61EF-4691-9CD9-C4CC30C2BF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870-E333-4451-8320-B0B06CC7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D9A-F152-4104-9037-05DD9BD5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002-0120-42A1-A4F0-843656C4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D13-136A-4D9D-95E6-B08B2C43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503-6D92-41DF-BFDE-0B8E2121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1825-7CE0-41B6-81B2-DD1FCBD2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22E-AD36-4BE8-B9AF-4715454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2B51-05EB-4CB0-8D9F-BE94633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48D6-615E-4DB5-8137-11486B8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D6D1-EBB0-45B0-92DE-B689375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0425-8174-4299-89F1-89E925C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16F-1BC0-470A-9112-7E690C0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5E2-77B2-4952-BFB2-62D0FC9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647-EC06-4F52-B26C-5AE348F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C42-1C90-4883-8F3D-5C75BEF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A2E-F496-465D-9816-E69A92AD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350D-AE57-4F71-AC1A-2F48B58D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A3B-FAA3-4E45-B534-F97B19C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EAE-AB0C-4F92-B686-5DF6E8C9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F2F-5919-4A61-9AC5-F21A2D9D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8F7-5B80-4143-8226-CD5DB77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A30-19EE-466D-978A-0FA4350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994-A19F-4D75-9DA0-5C973E6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893-CDC3-4FCC-B7B0-8F1D7C1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B45-9F19-41D1-BD5A-BCBA721D9B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879-9188-4DE1-8C19-A793238B1EA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1599840"/>
            <a:ext cx="7931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оружие массового поражения, действие которого основано на токсических свойствах химических вещест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5589720"/>
            <a:ext cx="40388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6" descr="люизит.png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1599840"/>
            <a:ext cx="734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жно-нарывное дейст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ханизм кожно-нарывного действия люизита связан с разрушением клеточных структур. Действуя в капельно-жидком состоянии люизит быстро проникает в толщу кожи (3-5 мин). Скрытый период практически отсутствует. Сразу развиваются признаки поражения: ощущается боль, жжение на месте воздействия. Затем проявляются воспалительные изменения кожи, выраженность которых определяет степень тяжести поражения. Лёгкое поражение характеризуется наличием болезненной эритемы. Поражение средней степени приводит к образованию поверхностного пузыря. Последний быстро вскрывается. Эрозивная поверхность эпителизуется в течение нескольких недель. Тяжелое поражение — это глубокая, длительно незаживающая язва. При поражении кожи парами люизита наблюдается скрытый период продолжительностью 4-6 ч., за которым следует период разлитой эритемы, прежде всего на открытых участках кожи. Действуя в высоких концентрациях, вещество может вызывать развитие поверхностных пузырей. Заживление в среднем 8-15 д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щита от по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щита от поражающего действия люизита достигается применением современных противогазов и специальных защитных костюм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общеядовитого действия. Попадая в организм, они нарушают передачу кислорода из крови к тканям. Это одни из самых быстродействующих ОВ. К ним относятся синильная кислота и хлорциа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инильная (цианистая) кислота́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цианистый водород, циановодород, нитрил муравьиной кислот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) — неорганическое соединение, представляющее собой бесцветную легкоподвижную жидкость с запахом горького миндал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нильная кислота действует на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рвн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ыхательн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ердечно-сосудистую систем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менения в системе кров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2205000"/>
            <a:ext cx="30355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ВОДНЫЕ РАКЕТОНОС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1341360"/>
            <a:ext cx="2087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И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Содержимое 9" descr="подводная лодка.jpg"/>
          <p:cNvPicPr/>
          <p:nvPr/>
        </p:nvPicPr>
        <p:blipFill>
          <a:blip r:embed="rId2"/>
          <a:stretch/>
        </p:blipFill>
        <p:spPr>
          <a:xfrm>
            <a:off x="55440" y="3292560"/>
            <a:ext cx="4613400" cy="341928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0" descr="самолет.jpg"/>
          <p:cNvPicPr/>
          <p:nvPr/>
        </p:nvPicPr>
        <p:blipFill>
          <a:blip r:embed="rId3"/>
          <a:stretch/>
        </p:blipFill>
        <p:spPr>
          <a:xfrm>
            <a:off x="4595760" y="2352600"/>
            <a:ext cx="440856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6" descr=""/>
          <p:cNvPicPr/>
          <p:nvPr/>
        </p:nvPicPr>
        <p:blipFill>
          <a:blip r:embed="rId1"/>
          <a:stretch/>
        </p:blipFill>
        <p:spPr>
          <a:xfrm>
            <a:off x="371520" y="2462040"/>
            <a:ext cx="868032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кожно-нарывн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общеядовит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равляющие вещества нервно-паралитического действ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96840"/>
            <a:ext cx="8431200" cy="14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равляющие вещества нервно-паралитического действия, воздействующие на центральную нервную систему. Целью применения ОВ нервно-паралитического воздействия является быстрый и массовый вывод личного состава из строя с возможно большим числом смертельных исходов. К отравляющим веществам этой группы относятся зарин, зоман, табун и V-г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ин — боевое отравляющее вещество нервно-паралитического действия. Химическое название: изопропиловый эфир фторангидрида метилфосфоновой кисл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а от пора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от поражающего действия зарина достигается применением современных противогазов и специальных защитных костю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зоман.png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23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 txBox="1"/>
          <p:nvPr/>
        </p:nvSpPr>
        <p:spPr>
          <a:xfrm>
            <a:off x="971280" y="2060640"/>
            <a:ext cx="7715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оман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— бесцветная и имеющая слабый запах скошенного сена жидкость. Боевое отравляющее вещество нервно-паралитического действия. По многим свойствам очень похож на зарин, однако гораздо более (в 2,5 раза) токсичен. Стойкость зомана несколько выше, чем у зари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рвые признаки поражения наблюдаются при концентрациях около 0,0005 мг/л через минуту (сужение зрачков глаз, затруднение дыхания). Среднесмертельная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центрация при действии через органы дыхания 0,03 мг·мин/л. Смертельная концентрация при резорбции через кожу — 2 мг/кг. Защита от зомана — противогаз и средства защиты кожи, а также антидоты. Впервые синтезирован в Германии в 1944 году для использования в качестве ОВ. Как антидот применяется атропин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4" descr="табун.pn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53836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6840" y="1699920"/>
            <a:ext cx="8002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абун — нервно-паралитическое отравляющее вещество (ОВ). Смертельная концентрация табуна в воздухе 0,4 мг/л (1 мин), при попадании на кожу в жидком виде — 50-70 мг/кг; в концентрации 0,01 мг/л (2 мин) табун вызывает сильный миоз (сужение зрачка). Защитой от табуна служит противогаз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абун впервые был получен перед Второй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 мировой войной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но боевого применения не получи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V-газы (V-агенты) VE, VG, VM, VX, VP, VS,V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EA-3148 — группа нервно-паралитических ОВ (отравляющих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ществ), разработанных в 50-х годах XX века. Представляют собой малолетучие жидкости с высокой температурой кипения, поэтому стойкость их в несколько раз выше, чем стойкость зар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V-газы в десятки раз токсичнее других ОВ нервно-паралитического действия. Отличаются высокой эффективностью при действии через кожные покровы. Так, для самого известного из серии V-агентов — VX — Среднесмертельная концентрация при действии через органы дыхания составляет 0.01 мг•мин/л (период скрытого действия 5 — 10 минут), среднесмертельная доза при резорбции через кожу — 0.1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равляющие вещества кожно-нарывного действия. Они наносят поражение главным образом через кожные покровы, а при применении их в виде аэрозолей и паров — также и через органы дыхания. Основные отравляющие вещества — иприт, люиз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иприт.jpg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44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84000" y="2349360"/>
            <a:ext cx="80024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прит воздействует на организм человека несколькими способам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разрушение межклеточных мембра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-нарушение обмена углевод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-«вырывание» азотистых оснований из ДНК и РН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прит обладает поражающим действием при любых путях проникновения в организм. Поражения слизистых оболочек глаз, носоглотки и верхних дыхательных путей проявляются даже при незначительных концентрациях иприта. При более высоких концентрациях наряду с местными поражениями происходит общее отравление организма. Иприт имеет скрытый период действия (2—8 ч) и обладает кумулятив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1:07:00Z</dcterms:created>
  <dc:creator>Андрей</dc:creator>
  <dc:description/>
  <dc:language>en-US</dc:language>
  <cp:lastModifiedBy>СтасbI4</cp:lastModifiedBy>
  <dcterms:modified xsi:type="dcterms:W3CDTF">2010-12-07T16:08:09Z</dcterms:modified>
  <cp:revision>19</cp:revision>
  <dc:subject/>
  <dc:title>Слайд 1</dc:title>
</cp:coreProperties>
</file>